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18C4-5AA7-4673-886F-0D23F963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F548-5E7B-4A26-820E-F88E4E6E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650B-8103-4B61-B43A-A82472C9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74BF-1E2D-443D-86B3-AC15BCB34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1844-9583-4B0F-B689-5C746D18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E153-9F6D-4693-B454-D1344B1F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393A-AF40-42D8-AF7D-D0089F99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1628-13E8-4E7C-A6FD-9E7AFC32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3A41-F410-461B-8168-0FF8D1B5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A951-7BFD-4055-A87E-19D87752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1B12-8FC1-4870-A45C-74421324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891F-E549-4195-8D4B-3367CD87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213B-08A6-48B1-8318-24CD55ADF28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ds.yahoo.com/_ylt=A0PDoX1dUlFNvVkAxISjzbkF/SIG=126qblulk/EXP=1297203933/**http%3A//0.tqn.com/d/goindia/1/0/g/4/-/-/bodgaya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BUDDH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" descr="View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447920"/>
            <a:ext cx="6553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0" y="4876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iddhartha traveled and taught until his death at the age of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80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http://images.realtravel.com/media/lg/f5/10/f510fdbb4a89790157e2f65ba3e0940e.jpg"/>
          <p:cNvPicPr/>
          <p:nvPr/>
        </p:nvPicPr>
        <p:blipFill>
          <a:blip r:embed="rId1"/>
          <a:stretch/>
        </p:blipFill>
        <p:spPr>
          <a:xfrm>
            <a:off x="2133720" y="45720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0" y="50292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eople followed the Buddha because his dharma freed the people from the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priest’s control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http://www.jillstanek.com/indian%20funeral%202.jpg"/>
          <p:cNvPicPr/>
          <p:nvPr/>
        </p:nvPicPr>
        <p:blipFill>
          <a:blip r:embed="rId1"/>
          <a:stretch/>
        </p:blipFill>
        <p:spPr>
          <a:xfrm>
            <a:off x="1752480" y="533520"/>
            <a:ext cx="52387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0" y="46483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 Buddha did not accept the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caste system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at placed people in one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social group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for their lifeti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51814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1070280" y="5791320"/>
            <a:ext cx="71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He taught that all people were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equal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http://jessicabuchleitner.files.wordpress.com/2009/11/equality.jpg"/>
          <p:cNvPicPr/>
          <p:nvPr/>
        </p:nvPicPr>
        <p:blipFill>
          <a:blip r:embed="rId1"/>
          <a:stretch/>
        </p:blipFill>
        <p:spPr>
          <a:xfrm>
            <a:off x="685800" y="0"/>
            <a:ext cx="7556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0" y="4876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 Buddha was against religious rituals in which </a:t>
            </a:r>
            <a:r>
              <a:rPr b="1" lang="en-US" sz="3600" spc="-1" strike="noStrike" u="sng">
                <a:solidFill>
                  <a:srgbClr val="009900"/>
                </a:solidFill>
                <a:uFillTx/>
                <a:latin typeface="Calibri"/>
              </a:rPr>
              <a:t>animals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were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sacrificed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2" descr="http://cache.daylife.com/imageserve/0bHs4In2767SC/610x.jpg"/>
          <p:cNvPicPr/>
          <p:nvPr/>
        </p:nvPicPr>
        <p:blipFill>
          <a:blip r:embed="rId1"/>
          <a:stretch/>
        </p:blipFill>
        <p:spPr>
          <a:xfrm>
            <a:off x="1219320" y="0"/>
            <a:ext cx="6629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0" y="48006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n his four Noble Truths, the Buddha explained why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suffering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occurs and how it can be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avoided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2" descr="http://2.bp.blogspot.com/_Jo7lJoQhtjw/SJHynoqUv6I/AAAAAAAAA88/zytkbn4YgLs/s400/pain-map+alphachimp.com"/>
          <p:cNvPicPr/>
          <p:nvPr/>
        </p:nvPicPr>
        <p:blipFill>
          <a:blip r:embed="rId1"/>
          <a:stretch/>
        </p:blipFill>
        <p:spPr>
          <a:xfrm>
            <a:off x="1523880" y="0"/>
            <a:ext cx="5639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0" y="304920"/>
            <a:ext cx="914400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The Four Noble Truths are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experience suffering and sorr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ffering and sorrow are caused by people’s greed, hatred,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d ignor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3. We can be freed from suffering by overcoming its ca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4. People can overcome their greed, hatred, and ignorance by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acticing the Eightfold Pa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0" y="4343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 Buddha’s teaching centered on how people should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think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and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act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2" descr="http://www.hindustanlink.com/festival/images/gautama-buddha.jpg"/>
          <p:cNvPicPr/>
          <p:nvPr/>
        </p:nvPicPr>
        <p:blipFill>
          <a:blip r:embed="rId1"/>
          <a:stretch/>
        </p:blipFill>
        <p:spPr>
          <a:xfrm>
            <a:off x="1676520" y="0"/>
            <a:ext cx="5562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0" y="41911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He believed in an in-between path called the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Middle Way</a:t>
            </a: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ich emphasized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moderation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, not too much of anything and not too litt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2" descr="http://farm2.static.flickr.com/1378/1230899182_54616bcc70.jpg"/>
          <p:cNvPicPr/>
          <p:nvPr/>
        </p:nvPicPr>
        <p:blipFill>
          <a:blip r:embed="rId1"/>
          <a:stretch/>
        </p:blipFill>
        <p:spPr>
          <a:xfrm>
            <a:off x="1600200" y="0"/>
            <a:ext cx="59436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2297880" y="0"/>
            <a:ext cx="36493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Eightfold Path 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ight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ight Resol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ight Spe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ight Cond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ight Livelih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ight Eff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ight Mindful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ight Med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0" y="5105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 Buddha, a title meaning “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enlightened one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”, real name was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Siddhartha Guatama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4" descr="http://www.viewzone.com/buddha.head.jpg"/>
          <p:cNvPicPr/>
          <p:nvPr/>
        </p:nvPicPr>
        <p:blipFill>
          <a:blip r:embed="rId1"/>
          <a:stretch/>
        </p:blipFill>
        <p:spPr>
          <a:xfrm>
            <a:off x="1219320" y="0"/>
            <a:ext cx="66675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0" y="4572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Buddhism teaches a person’s good or bad deeds called</a:t>
            </a: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karma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, travel with him or her into the next life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2" descr="http://www.freewebs.com/karmaandmynameisearl/wheeloflife.jpg"/>
          <p:cNvPicPr/>
          <p:nvPr/>
        </p:nvPicPr>
        <p:blipFill>
          <a:blip r:embed="rId1"/>
          <a:stretch/>
        </p:blipFill>
        <p:spPr>
          <a:xfrm>
            <a:off x="1981080" y="0"/>
            <a:ext cx="51818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0" y="5181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Buddhists do not believe in a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soul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or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 God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2" descr="http://www.britsattheirbest.com/images/cr_blake_ancient_of_days_38.jpg"/>
          <p:cNvPicPr/>
          <p:nvPr/>
        </p:nvPicPr>
        <p:blipFill>
          <a:blip r:embed="rId1"/>
          <a:stretch/>
        </p:blipFill>
        <p:spPr>
          <a:xfrm>
            <a:off x="2590920" y="0"/>
            <a:ext cx="36194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364680" y="5257800"/>
            <a:ext cx="84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 Buddhist’s goal is to reach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enlightenment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2" descr="http://1.bp.blogspot.com/_Sui7ERPxZWw/S0TG4lEgfaI/AAAAAAAAACU/rTI-IAWGP20/s400/enlightenment.jpg"/>
          <p:cNvPicPr/>
          <p:nvPr/>
        </p:nvPicPr>
        <p:blipFill>
          <a:blip r:embed="rId1"/>
          <a:stretch/>
        </p:blipFill>
        <p:spPr>
          <a:xfrm>
            <a:off x="2286000" y="0"/>
            <a:ext cx="4419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0" y="4800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o reach this goal a Buddhist must give up all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desires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and overcome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ignorance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2" descr="http://www.networknorwich.co.uk/Images/content/213/130054.jpg"/>
          <p:cNvPicPr/>
          <p:nvPr/>
        </p:nvPicPr>
        <p:blipFill>
          <a:blip r:embed="rId1"/>
          <a:stretch/>
        </p:blipFill>
        <p:spPr>
          <a:xfrm>
            <a:off x="1752480" y="609480"/>
            <a:ext cx="54104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0" y="4572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Focusing one’s thinking,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meditation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, is an important part of a Buddhists life and reaching enlightenm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2" descr="http://www.stevenaitchison.co.uk/blog/meditation.jpg"/>
          <p:cNvPicPr/>
          <p:nvPr/>
        </p:nvPicPr>
        <p:blipFill>
          <a:blip r:embed="rId1"/>
          <a:stretch/>
        </p:blipFill>
        <p:spPr>
          <a:xfrm>
            <a:off x="1371600" y="380880"/>
            <a:ext cx="6172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0" y="5103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By 650, Buddhism extended to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China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Korea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Japan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Tibet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Burma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, and other areas of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Southeast Asia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2" descr="http://dharmastudy.net/images/buddhism_map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1091880" y="5791320"/>
            <a:ext cx="70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He lived in India from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563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483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B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2" descr="http://www.rbi.org.in/currency/museum/mpindan21.jpg"/>
          <p:cNvPicPr/>
          <p:nvPr/>
        </p:nvPicPr>
        <p:blipFill>
          <a:blip r:embed="rId1"/>
          <a:stretch/>
        </p:blipFill>
        <p:spPr>
          <a:xfrm>
            <a:off x="1143000" y="0"/>
            <a:ext cx="6591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0" y="5410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iddhartha left his sheltered palace life and set out to search for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truth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http://dlibrary.acu.edu.au/staffhome/gehall/images/truth.gif"/>
          <p:cNvPicPr/>
          <p:nvPr/>
        </p:nvPicPr>
        <p:blipFill>
          <a:blip r:embed="rId1"/>
          <a:stretch/>
        </p:blipFill>
        <p:spPr>
          <a:xfrm>
            <a:off x="1752480" y="0"/>
            <a:ext cx="5715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0" y="5029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On his journeys, Siddhartha wore a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yellow robe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nd owned nothing but a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small bowl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https://my.qoop.com/store/Yali-Shi-69b4f06a86f792eba18ba5426459edf607f59b8a/Buddhist-Monk-by-Shi-Yali--asiastockimages-com-qpps_404466645452252.LG.jpg"/>
          <p:cNvPicPr/>
          <p:nvPr/>
        </p:nvPicPr>
        <p:blipFill>
          <a:blip r:embed="rId1"/>
          <a:stretch/>
        </p:blipFill>
        <p:spPr>
          <a:xfrm>
            <a:off x="1981080" y="0"/>
            <a:ext cx="47628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0" y="4038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o find truth, he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wandered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questioned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, and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meditated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http://www.stressproofyourlife.com/images/monk.jpg"/>
          <p:cNvPicPr/>
          <p:nvPr/>
        </p:nvPicPr>
        <p:blipFill>
          <a:blip r:embed="rId1"/>
          <a:stretch/>
        </p:blipFill>
        <p:spPr>
          <a:xfrm>
            <a:off x="1752480" y="609480"/>
            <a:ext cx="50292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0" y="4724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On the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49</a:t>
            </a:r>
            <a:r>
              <a:rPr b="1" lang="en-US" sz="3600" spc="-1" strike="noStrike" u="sng" baseline="30000">
                <a:solidFill>
                  <a:srgbClr val="00b050"/>
                </a:solidFill>
                <a:uFillTx/>
                <a:latin typeface="Calibri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day of his journey, Siddhartha discovered the truth he sough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http://i5.photobucket.com/albums/y186/LuvLife1/thoughts.jpg"/>
          <p:cNvPicPr/>
          <p:nvPr/>
        </p:nvPicPr>
        <p:blipFill>
          <a:blip r:embed="rId1"/>
          <a:stretch/>
        </p:blipFill>
        <p:spPr>
          <a:xfrm>
            <a:off x="2133720" y="30492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0" y="5257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He had reached a height of understanding called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enlightenment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http://www.buddhist-images.co.uk/buddhajpgs/sakyamunijune.jpg"/>
          <p:cNvPicPr/>
          <p:nvPr/>
        </p:nvPicPr>
        <p:blipFill>
          <a:blip r:embed="rId1"/>
          <a:stretch/>
        </p:blipFill>
        <p:spPr>
          <a:xfrm>
            <a:off x="2438280" y="380880"/>
            <a:ext cx="411480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0" y="5105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 Buddha began to teach others the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alibri"/>
              </a:rPr>
              <a:t>dharma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, his teachings or la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http://home.swipnet.se/gostaratna/Buddha18.jpg"/>
          <p:cNvPicPr/>
          <p:nvPr/>
        </p:nvPicPr>
        <p:blipFill>
          <a:blip r:embed="rId1"/>
          <a:stretch/>
        </p:blipFill>
        <p:spPr>
          <a:xfrm>
            <a:off x="1295280" y="0"/>
            <a:ext cx="6172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0:18:12Z</dcterms:created>
  <dc:creator>Current User</dc:creator>
  <dc:description/>
  <dc:language>en-US</dc:language>
  <cp:lastModifiedBy>gehadde</cp:lastModifiedBy>
  <dcterms:modified xsi:type="dcterms:W3CDTF">2012-02-07T14:59:43Z</dcterms:modified>
  <cp:revision>36</cp:revision>
  <dc:subject/>
  <dc:title>Slide 1</dc:title>
</cp:coreProperties>
</file>